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4202-E893-44A8-A4C9-A2736787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6CC3-1850-4BBC-8AFF-6E7D45AB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BCE-CD1A-436A-8B02-5238A977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4E4D-F2E0-4258-8EFE-DB4AECF0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49142-41E4-4BF7-B106-F98AD8F8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28823-B137-4D2E-95DA-22921C86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EDFB2-A7D2-439F-9C47-6C2278D4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90610-4335-440D-89BC-FECBB794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D1493-D3DE-4B9A-84F3-828FDED2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CA502-D59A-4A79-9EDB-0F131D1A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B11FB-A662-43AF-A19D-FEACCD17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EACD-2BD4-4E68-8BCB-1B561D76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ECDC9-C250-4468-ACA4-38FF7916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B69B2-AFAA-43D0-AF26-57B4CE56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A26F1-5790-4F60-8AE9-27BC4DD0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380D5-063B-432C-8479-BCA69644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C3721-D63F-4B70-89C6-C050900D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3537-218D-4E90-AB04-7EA98B96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646-56C0-4C8D-82E2-C4A1819B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968-DFE5-4A1F-8278-A745F7C9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FB79-FC33-4FE2-BD8E-A4B41C14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B7F-45A4-4BFF-B01E-C94B2835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742-40F5-4963-A725-75CAAE41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91A1-992F-4A8F-B7A4-14AEC1A1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FC52-878D-41A0-945F-62B35AD34B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6792-0B3B-40F3-B46E-FABA2B5220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bensguide.gpo.gov/3-5/state/wyoming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52280" y="533520"/>
            <a:ext cx="86108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75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yoming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75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5105520"/>
            <a:ext cx="3962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0/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5257800"/>
            <a:ext cx="25909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 States,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State Song,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10/7/2010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50states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Name: Wyo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Capital: Cheyen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: 493,78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the Union: July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890 4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to: Equal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: Equalit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er: Indian Paintbrus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: Meadowl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g: Wyo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Behind Name: Based on an Algonquin Indian word meaning “large prairie plac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ing Facts: State tree: Cottonwood,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rgest State, Biggest City is Cheyen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353040" cy="1828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867280" y="4191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Wyoming: Map and State Flag"/>
          <p:cNvPicPr/>
          <p:nvPr/>
        </p:nvPicPr>
        <p:blipFill>
          <a:blip r:embed="rId1"/>
          <a:srcRect l="0" t="39270" r="0" b="0"/>
          <a:stretch/>
        </p:blipFill>
        <p:spPr>
          <a:xfrm>
            <a:off x="6248520" y="1371600"/>
            <a:ext cx="2438280" cy="2057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5800" y="45720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 Wyoming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 September 2010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bensguide.gpo.gov/3-5/state/wyoming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Wyoming: Map and State Flag"/>
          <p:cNvPicPr/>
          <p:nvPr/>
        </p:nvPicPr>
        <p:blipFill>
          <a:blip r:embed="rId3"/>
          <a:srcRect l="0" t="0" r="0" b="65652"/>
          <a:stretch/>
        </p:blipFill>
        <p:spPr>
          <a:xfrm>
            <a:off x="838080" y="1295280"/>
            <a:ext cx="304812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All images Copyright © 1997 - 2000 WriteLine. All Rights Reserved. Rodeo"/>
          <p:cNvPicPr/>
          <p:nvPr/>
        </p:nvPicPr>
        <p:blipFill>
          <a:blip r:embed="rId1"/>
          <a:stretch/>
        </p:blipFill>
        <p:spPr>
          <a:xfrm>
            <a:off x="0" y="0"/>
            <a:ext cx="8077320" cy="5384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8600" y="5562720"/>
            <a:ext cx="8534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eyenne Frontier Da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ptember 22, 2010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ww.postcardsfrom.com/t1/990802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4800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odeos are exci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All images Copyright © 1997 - 2000 WriteLine. All Rights Reserved. Flaming Gorge"/>
          <p:cNvPicPr/>
          <p:nvPr/>
        </p:nvPicPr>
        <p:blipFill>
          <a:blip r:embed="rId1"/>
          <a:stretch/>
        </p:blipFill>
        <p:spPr>
          <a:xfrm>
            <a:off x="0" y="0"/>
            <a:ext cx="8610480" cy="5740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5791320"/>
            <a:ext cx="8763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aming Gorge National Recreation Area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2, 2010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ww.postcardsfrom.com/t1/990805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1522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ational Recreation Area Is a Great Place to Vis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All images Copyright © 1997 - 2000 WriteLine. All Rights Reserved. Green River"/>
          <p:cNvPicPr/>
          <p:nvPr/>
        </p:nvPicPr>
        <p:blipFill>
          <a:blip r:embed="rId1"/>
          <a:stretch/>
        </p:blipFill>
        <p:spPr>
          <a:xfrm>
            <a:off x="0" y="0"/>
            <a:ext cx="8305920" cy="5537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8600" y="5638680"/>
            <a:ext cx="8001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een River, Wyoming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3, 2010 http://www.postcardsfrom.com/t1/990803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911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en River is A Must-See Place to Vis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45Z</dcterms:created>
  <dc:creator>install</dc:creator>
  <dc:description/>
  <dc:language>en-US</dc:language>
  <cp:lastModifiedBy>install</cp:lastModifiedBy>
  <dcterms:modified xsi:type="dcterms:W3CDTF">2010-10-14T13:19:48Z</dcterms:modified>
  <cp:revision>18</cp:revision>
  <dc:subject/>
  <dc:title>Slide 1</dc:title>
</cp:coreProperties>
</file>